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1.jpeg" ContentType="image/jpeg"/>
  <Override PartName="/ppt/media/image4.gif" ContentType="image/gif"/>
  <Override PartName="/ppt/media/image9.jpeg" ContentType="image/jpeg"/>
  <Override PartName="/ppt/media/image11.jpeg" ContentType="image/jpeg"/>
  <Override PartName="/ppt/media/image5.wmf" ContentType="image/x-wmf"/>
  <Override PartName="/ppt/media/image7.jpeg" ContentType="image/jpeg"/>
  <Override PartName="/ppt/media/image12.jpeg" ContentType="image/jpeg"/>
  <Override PartName="/ppt/media/image6.png" ContentType="image/png"/>
  <Override PartName="/ppt/media/image3.gif" ContentType="image/gif"/>
  <Override PartName="/ppt/media/image13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CA82-2823-48F5-B085-B4EF94155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9FA5-DB24-4A6B-A4E9-9445FCDD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4212-14BB-4DC4-B800-48F76E6ED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BC1E-7785-4EDC-9787-D245AA2BD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CE43-96E9-451B-9C84-29E2449E0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C322-4A9A-4D8B-B099-7A6D30B5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F96F-8363-4C44-A17C-6C72ED34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7005-471F-40D7-980D-37BDDAA5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0CD2-3CDD-45F3-94D1-D39291AB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E431-31D8-4408-B408-4A2ED224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85B2-DED7-4D75-A4E0-66B65DB1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9F4D-053B-406A-AE94-098A32B0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6C84-7459-4ECB-9C59-4403C0B3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8B03-5808-43BA-A1D5-86D72B01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206C-4F10-46EF-B15B-46D88180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FB24-42A9-43EC-97CF-29543AE58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3CB8-D44E-4099-B0CE-B4BCA478D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B94D-CAF9-469B-89AF-67CE2FFA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DEBB-13C0-410B-9E67-19171142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5A91-D4BF-47BA-9BB5-D2F319B7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10A6-D0EB-4F1C-A1D1-4B2C50FB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A9A3-490F-48FE-A67A-64157160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0820-005E-4AFF-99C0-DAB57171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FE39-819C-48BE-BB62-728657A3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500D-4500-4EE7-A27F-7BACE12F28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CEDC-7201-4335-8298-AE65D90B4A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d2-124-dg.pbwiki.com/final_presentations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cities-buildings.podomatic.com/" TargetMode="External"/><Relationship Id="rId3" Type="http://schemas.openxmlformats.org/officeDocument/2006/relationships/hyperlink" Target="http://vaestro.com/viewforum-368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763280" y="4076280"/>
            <a:ext cx="67690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9a9600"/>
                </a:solidFill>
                <a:latin typeface="Arial"/>
              </a:rPr>
              <a:t>Las Tecnologías de la Información y la Comunicación (TIC)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9a9600"/>
                </a:solidFill>
                <a:latin typeface="Arial"/>
              </a:rPr>
              <a:t>!Un “click” hacia el futuro educativo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765000"/>
            <a:ext cx="73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rnadas de Capacitació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0033"/>
                </a:solidFill>
                <a:latin typeface="Verdana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cuela Diocesana San Juan Bautista 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stituto Diocesano Pablo V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330033"/>
                </a:solidFill>
                <a:latin typeface="Verdan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732720" y="1844640"/>
            <a:ext cx="1371600" cy="1104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Página Principal"/>
          <p:cNvPicPr/>
          <p:nvPr/>
        </p:nvPicPr>
        <p:blipFill>
          <a:blip r:embed="rId2"/>
          <a:stretch/>
        </p:blipFill>
        <p:spPr>
          <a:xfrm>
            <a:off x="1476360" y="333360"/>
            <a:ext cx="1000080" cy="657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227640" y="1989000"/>
            <a:ext cx="2484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fne Gonzál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iversidad Bolív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0 de Julio, 200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20DD-32E3-4ED5-80AC-7423634E1D3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280" y="273240"/>
            <a:ext cx="786924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a9600"/>
                </a:solidFill>
                <a:latin typeface="Verdana"/>
              </a:rPr>
              <a:t>Evaluación Alternativ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8440" y="5661000"/>
            <a:ext cx="226260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s-ES" sz="1800" spc="-1" strike="noStrike" u="sng">
                <a:solidFill>
                  <a:srgbClr val="990033"/>
                </a:solidFill>
                <a:uFillTx/>
                <a:latin typeface="Verdana"/>
                <a:hlinkClick r:id="rId1"/>
              </a:rPr>
              <a:t>Ej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-Co-eval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-Plan de evalu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0" descr="portfolio.jpg"/>
          <p:cNvPicPr/>
          <p:nvPr/>
        </p:nvPicPr>
        <p:blipFill>
          <a:blip r:embed="rId2"/>
          <a:stretch/>
        </p:blipFill>
        <p:spPr>
          <a:xfrm>
            <a:off x="971640" y="1557360"/>
            <a:ext cx="2878200" cy="40291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211640" y="1773360"/>
            <a:ext cx="43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nsversal, Contin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2924280"/>
            <a:ext cx="2684520" cy="1983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Instrumento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e1"/>
                </a:solidFill>
                <a:latin typeface="Arial"/>
              </a:rPr>
              <a:t>Rubr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e1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e1"/>
                </a:solidFill>
                <a:latin typeface="Arial"/>
              </a:rPr>
              <a:t>Listas de cote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e1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e1"/>
                </a:solidFill>
                <a:latin typeface="Arial"/>
              </a:rPr>
              <a:t>Di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e1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e1"/>
                </a:solidFill>
                <a:latin typeface="Arial"/>
              </a:rPr>
              <a:t>Qu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101080" y="2421000"/>
            <a:ext cx="358560" cy="2527560"/>
          </a:xfrm>
          <a:prstGeom prst="rect">
            <a:avLst/>
          </a:prstGeom>
          <a:solidFill>
            <a:srgbClr val="9a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e1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e1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e1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e1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e1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e1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e1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e1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e1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e1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24720" y="342900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96000" y="5157720"/>
            <a:ext cx="483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Auto-evaluación, co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7885080" y="5877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76E9-1B8A-4F8D-B2AC-C7F1A12F68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63535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54792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a9600"/>
                </a:solidFill>
                <a:latin typeface="Verdana"/>
              </a:rPr>
              <a:t>El Rol del Profeso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132000" y="1844640"/>
            <a:ext cx="5256360" cy="39416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rot="20155800">
            <a:off x="3776040" y="3573000"/>
            <a:ext cx="445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¿</a:t>
            </a:r>
            <a:r>
              <a:rPr b="0" lang="es-ES" sz="2400" spc="-1" strike="noStrike">
                <a:solidFill>
                  <a:srgbClr val="ffffe1"/>
                </a:solidFill>
                <a:latin typeface="Verdana"/>
              </a:rPr>
              <a:t>Cómo ha sido mi camb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e1"/>
                </a:solidFill>
                <a:latin typeface="Verdana"/>
              </a:rPr>
              <a:t>de profesora presenc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e1"/>
                </a:solidFill>
                <a:latin typeface="Verdana"/>
              </a:rPr>
              <a:t>a profesora online o blend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97840" y="2637000"/>
            <a:ext cx="14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Curios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40240" y="321300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Aprender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la prác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7000" y="41497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Flexi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7240" y="501336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Investigación-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0760" y="544500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Pertenecer a una C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948360" y="6165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B358-512D-4989-B484-B1FC7B3C2F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58677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9a9600"/>
                </a:solidFill>
                <a:latin typeface="Verdana"/>
              </a:rPr>
              <a:t>Un Ejempl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905440" cy="3664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046240" y="5805360"/>
            <a:ext cx="5892840" cy="39888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e1"/>
                </a:solidFill>
                <a:latin typeface="Arial"/>
              </a:rPr>
              <a:t>Curso de Inglés para Arquitectura y Urban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6B82-37FD-448E-ACE1-64EB663061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669040" y="2133720"/>
            <a:ext cx="3404160" cy="338580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e1"/>
                </a:solidFill>
                <a:latin typeface="Verdana"/>
              </a:rPr>
              <a:t>Muchas Graci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e1"/>
                </a:solidFill>
                <a:latin typeface="Verdana"/>
              </a:rPr>
              <a:t>Dafne Gonzál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dygonza@yaho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18520" y="333360"/>
            <a:ext cx="221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a9600"/>
                </a:solidFill>
                <a:latin typeface="Arial"/>
              </a:rPr>
              <a:t>Conta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378C-0698-49A9-ABF1-C38B51EC4D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9a9600"/>
                </a:solidFill>
                <a:latin typeface="Times New Roman"/>
              </a:rPr>
              <a:t>E-learning (TIC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757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prendizaje mixto o híbrido (blen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prendizaje en línea (onlin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635280" y="494172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105" name="computercartoon" descr=""/>
          <p:cNvPicPr/>
          <p:nvPr/>
        </p:nvPicPr>
        <p:blipFill>
          <a:blip r:embed="rId2"/>
          <a:stretch/>
        </p:blipFill>
        <p:spPr>
          <a:xfrm>
            <a:off x="1908000" y="2349360"/>
            <a:ext cx="1729080" cy="1584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219640" y="2349360"/>
            <a:ext cx="1584360" cy="1571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708360" y="2924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6877080" y="5805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2550-A3D2-4EE4-9DCB-2A69C57519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43134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58920" y="1844640"/>
            <a:ext cx="345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incró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(tiempo re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06480" y="3573360"/>
            <a:ext cx="361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sincró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(tiempo posterg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404640"/>
            <a:ext cx="40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a9600"/>
                </a:solidFill>
                <a:latin typeface="Arial"/>
              </a:rPr>
              <a:t>Comun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84720" y="1844640"/>
            <a:ext cx="3024000" cy="916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" sz="1800" spc="-1" strike="noStrike">
                <a:solidFill>
                  <a:srgbClr val="ffffe1"/>
                </a:solidFill>
                <a:latin typeface="Arial"/>
              </a:rPr>
              <a:t>Chat de texto o de v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e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e1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e1"/>
                </a:solidFill>
                <a:latin typeface="Arial"/>
              </a:rPr>
              <a:t>Salas virt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e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e1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e1"/>
                </a:solidFill>
                <a:latin typeface="Arial"/>
              </a:rPr>
              <a:t>Telefonía cel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71640" y="3500280"/>
            <a:ext cx="2663640" cy="2014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e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e1"/>
                </a:solidFill>
                <a:latin typeface="Arial"/>
              </a:rPr>
              <a:t>Correo electró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e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e1"/>
                </a:solidFill>
                <a:latin typeface="Arial"/>
              </a:rPr>
              <a:t>Correo de v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e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e1"/>
                </a:solidFill>
                <a:latin typeface="Arial"/>
              </a:rPr>
              <a:t>Foros (texto y vo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e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e1"/>
                </a:solidFill>
                <a:latin typeface="Arial"/>
              </a:rPr>
              <a:t>Wik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e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e1"/>
                </a:solidFill>
                <a:latin typeface="Arial"/>
              </a:rPr>
              <a:t>B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e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e1"/>
                </a:solidFill>
                <a:latin typeface="Arial"/>
              </a:rPr>
              <a:t>Podca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e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e1"/>
                </a:solidFill>
                <a:latin typeface="Arial"/>
              </a:rPr>
              <a:t>Vid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4000" y="227664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563640" y="4076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164360" y="5516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EA76-9084-41CE-863D-B90DA6AB1B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47810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25560" y="303480"/>
            <a:ext cx="774072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9a9600"/>
                </a:solidFill>
                <a:latin typeface="Verdana"/>
              </a:rPr>
              <a:t>Nuevos Paradigm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30872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269800" y="1916280"/>
            <a:ext cx="2683080" cy="36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e1"/>
                </a:solidFill>
                <a:latin typeface="Arial"/>
              </a:rPr>
              <a:t>Teorías de Aprendiz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69080" y="2637000"/>
            <a:ext cx="2760840" cy="36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e1"/>
                </a:solidFill>
                <a:latin typeface="Arial"/>
              </a:rPr>
              <a:t>Fuentes de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70880" y="3213000"/>
            <a:ext cx="3570120" cy="36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e1"/>
                </a:solidFill>
                <a:latin typeface="Arial"/>
              </a:rPr>
              <a:t>Herramientas de comun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87280" y="4292640"/>
            <a:ext cx="1729080" cy="36828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e1"/>
                </a:solidFill>
                <a:latin typeface="Arial"/>
              </a:rPr>
              <a:t>El estudi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05800" y="4221000"/>
            <a:ext cx="1881360" cy="368280"/>
          </a:xfrm>
          <a:prstGeom prst="rect">
            <a:avLst/>
          </a:prstGeom>
          <a:solidFill>
            <a:srgbClr val="9a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e1"/>
                </a:solidFill>
                <a:latin typeface="Arial"/>
              </a:rPr>
              <a:t>Las 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1800" y="5084640"/>
            <a:ext cx="1692360" cy="368280"/>
          </a:xfrm>
          <a:prstGeom prst="rect">
            <a:avLst/>
          </a:prstGeom>
          <a:solidFill>
            <a:srgbClr val="9a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e1"/>
                </a:solidFill>
                <a:latin typeface="Arial"/>
              </a:rPr>
              <a:t>La eval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68360" y="5157720"/>
            <a:ext cx="1800360" cy="36828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e1"/>
                </a:solidFill>
                <a:latin typeface="Arial"/>
              </a:rPr>
              <a:t>El profes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3A62-09F2-406D-A522-10CC698C89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43029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48744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4200" spc="-1" strike="noStrike">
                <a:solidFill>
                  <a:srgbClr val="9a9600"/>
                </a:solidFill>
                <a:latin typeface="Verdana"/>
              </a:rPr>
              <a:t>Conectivism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78343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eorge Siemens: Nueva teoría de aprendizaje – Era dig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tiquetas (tags)   -   Folksonomy  - R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403280" y="2647800"/>
            <a:ext cx="6913800" cy="3942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172360" y="5445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07B8-01D3-48C5-AF10-F32E12ADC4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57449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56052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a9600"/>
                </a:solidFill>
                <a:latin typeface="Verdana"/>
              </a:rPr>
              <a:t>El Mundo como Fuente</a:t>
            </a:r>
            <a:r>
              <a:rPr b="0" lang="en-US" sz="42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5688000" cy="5013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58760" y="4811760"/>
            <a:ext cx="189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llage h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r Dennis O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n Ariz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89040" y="5603760"/>
            <a:ext cx="1137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990033"/>
                </a:solidFill>
                <a:uFillTx/>
                <a:latin typeface="Verdana"/>
                <a:hlinkClick r:id="rId2"/>
              </a:rPr>
              <a:t>Podc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990033"/>
                </a:solidFill>
                <a:uFillTx/>
                <a:latin typeface="Verdana"/>
                <a:hlinkClick r:id="rId3"/>
              </a:rPr>
              <a:t>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8388360" y="5373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535A-682A-48B7-9450-66122C5862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26076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54792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9600"/>
                </a:solidFill>
                <a:latin typeface="Verdana"/>
              </a:rPr>
              <a:t>Herramientas de Comunicación</a:t>
            </a:r>
            <a:r>
              <a:rPr b="0" lang="en-US" sz="42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640720" cy="4257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236000" y="5877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C378-405B-4E8C-9005-2CDC8BE6A1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65312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640" y="560520"/>
            <a:ext cx="794232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a9600"/>
                </a:solidFill>
                <a:latin typeface="Verdana"/>
              </a:rPr>
              <a:t>El Estudian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23240" y="1628640"/>
            <a:ext cx="59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Autónomo, auto-motivado, lector de hipertextos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lenguaje iconográfico y CRI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908000" y="2492280"/>
            <a:ext cx="5080320" cy="3810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81200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330A-1911-4007-9A81-3CB6813088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42010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74760"/>
            <a:ext cx="7313400" cy="11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a9600"/>
                </a:solidFill>
                <a:latin typeface="Verdana"/>
              </a:rPr>
              <a:t>Actividades Auténticas e Integradas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83760" y="6180120"/>
            <a:ext cx="705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jemplo de actividad de los alumnos de inglés para arquite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alanna.jpg"/>
          <p:cNvPicPr/>
          <p:nvPr/>
        </p:nvPicPr>
        <p:blipFill>
          <a:blip r:embed="rId1"/>
          <a:stretch/>
        </p:blipFill>
        <p:spPr>
          <a:xfrm>
            <a:off x="1692360" y="1600200"/>
            <a:ext cx="5759280" cy="46036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101080" y="4365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A8D5-AA91-4CA0-ABAA-0146034419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50630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5:53:17Z</dcterms:created>
  <dc:creator>DAF</dc:creator>
  <dc:description/>
  <dc:language>en-US</dc:language>
  <cp:lastModifiedBy>DAF</cp:lastModifiedBy>
  <dcterms:modified xsi:type="dcterms:W3CDTF">2007-07-20T01:06:20Z</dcterms:modified>
  <cp:revision>34</cp:revision>
  <dc:subject/>
  <dc:title>E-learning</dc:title>
</cp:coreProperties>
</file>